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344-FDF1-4069-A233-746D5D18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85B-8623-426D-84F6-CE9661A6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133-40C0-476B-9AC2-818DDC8D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F0D-D491-4172-8A8D-982B578A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F55C-AF77-4714-A02F-2D9282EF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3ED-47E8-4133-987D-DA225C5F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8B9-A5DA-458C-A4D5-1780AAFC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915-2C92-432E-A484-D9E33979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868-BF38-4D7A-A0E8-2CF3D2F6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545-2D71-4F19-BE6E-9A5C2EEA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A2B-0391-4F38-8D23-76BAE0A3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58E9-8DD5-4976-BB18-AAD08C4F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9DA7-557A-463B-8286-0C44D6C8A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 x 5/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/9 x 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/12 x 1  4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:  Students will multiply fractions and mixed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ion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 #1 rolls 2 dice (one becomes numerator, the other denomin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 #2 does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fractions.  Be sure to record your work on your paper – it will be turned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swers to be sure you ag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completing as many problems a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¾ x 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3 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½ x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 4/5 x  1  3/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 P. 60 12-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2:22:27Z</dcterms:created>
  <dc:creator>ccps</dc:creator>
  <dc:description/>
  <dc:language>en-US</dc:language>
  <cp:lastModifiedBy>ccps</cp:lastModifiedBy>
  <dcterms:modified xsi:type="dcterms:W3CDTF">2010-03-29T15:20:03Z</dcterms:modified>
  <cp:revision>5</cp:revision>
  <dc:subject/>
  <dc:title>Warm-up:</dc:title>
</cp:coreProperties>
</file>